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A630-E024-447E-A34B-155797771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4B1-1E04-49C0-ACF5-22452BCF9C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A9A0-9862-4B31-B3A8-D1231042716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89F-CD9E-4126-B6CB-5751BF79F7C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676-0E54-43BA-BD55-3D9D2E038A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4031-EA09-4C80-8130-22B20DC9A3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78C4-9AD1-42DF-B926-756992EADCB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A3C-E2C6-4B24-AA2C-4068502C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B04-F72B-4EE5-9E42-16F40796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707-BCDF-4E43-8FAE-F660DED4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C51-4931-425A-9B8E-FF47F1B4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DDE2-1C13-460B-94E6-8FF1A237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4211-5901-4922-BA15-A7AE8C7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CE83-B3BD-4107-9375-6452088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E885-B232-4B8F-9EEB-30746E68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5A4-16EC-4506-A179-EE6C7869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3452-66D3-4E00-928E-96C71D51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A956-EBE0-4D30-8413-0364A88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7FF-4DD0-45E4-A5F7-0C179FA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2396-2DAF-4675-9FC3-65291E4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A54-0FDE-4204-8EBE-6378977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927-2FB1-4A73-83C5-29536E28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DEDE-B379-4CE1-B939-B5093F72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7017-6A46-424D-9131-0F46E45A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C75D8-1D89-4709-BE88-9539EE15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E0D63-FF10-4229-B111-6AAC837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83515-7270-48DF-B323-C8EC93CA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CD096-8F2B-4E6D-82E1-B7CFBC1C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4D40D-6D6F-4742-9F6A-D726884E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ED4-6B7F-4771-B56B-AC03173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C600E-A6ED-45FF-9969-CC4369E5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EB169-1BB3-4DF7-8214-5059D56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F754F-9F65-446F-9EB4-354F70F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28DE9-E44B-49EF-9A25-A73C021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98527-6652-4A7A-BAC6-EABCD4B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C7B7C-A086-4628-96FC-62977B59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9F0C4-86EA-41B2-A3D0-6435F9BE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62AB-2AB0-4CFD-8146-D121CBA7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3E29-73D7-46A7-B6DE-78E07EFA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C899-09DC-4BCD-9CDE-F17C2639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C60-EB76-4D39-B88F-78CC6B5C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03AC-396E-4C29-99A5-8F5CF71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F510-6499-4C1C-B4E1-033331B0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12ED-2CF0-41DF-9A65-6B9BA7E4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57C9-E19F-4539-83B8-E741EA11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9474-8E6B-4C12-A65F-6B2C316D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19D1B-D0A5-4F8B-B08E-BE06B17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324D-B6C8-46DA-B37A-609FA240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227A-9E69-4C43-AD91-9F59CD23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AFC7-6853-42AD-B728-C962F98B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1E8-62D7-4D10-9537-6DD28EC4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365-2D9B-45E5-91C5-C0F1316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B5C-5681-40AD-BE10-C08D50A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EDC-8C04-4C31-A53F-0595846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E9D-FFFB-4792-9B5C-7A85CA5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E61F-BE48-4E02-9F87-8496A09A28B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1B34-3375-4427-AA83-ED4FEB5FF429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EB6-43E3-4AB6-AD59-F7C6CA92389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B3BD-B2B7-41DA-88ED-1D6E439C848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Introduction to Literature:</a:t>
            </a:r>
            <a:br>
              <a:rPr sz="3200"/>
            </a:b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Reading Criticall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Prof. Everson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ENGL 20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8568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is Critical Reading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You have learned how to read throughout your schooling, mostly at the level of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decoding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, 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entury Gothic"/>
              </a:rPr>
              <a:t>reading for information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.  At the college level, you will be required to go </a:t>
            </a:r>
            <a:r>
              <a:rPr b="1" lang="en-US" sz="2700" spc="-1" strike="noStrike">
                <a:solidFill>
                  <a:srgbClr val="0070c0"/>
                </a:solidFill>
                <a:latin typeface="Century Gothic"/>
              </a:rPr>
              <a:t>beyond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i="1" lang="en-US" sz="2700" spc="-1" strike="noStrike">
                <a:solidFill>
                  <a:srgbClr val="898989"/>
                </a:solidFill>
                <a:latin typeface="Century Gothic"/>
              </a:rPr>
              <a:t>extracting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information from texts.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You must begin to read </a:t>
            </a:r>
            <a:r>
              <a:rPr b="1" lang="en-US" sz="2700" spc="-1" strike="noStrike">
                <a:solidFill>
                  <a:srgbClr val="94c600"/>
                </a:solidFill>
                <a:latin typeface="Century Gothic"/>
              </a:rPr>
              <a:t>carefully</a:t>
            </a:r>
            <a:r>
              <a:rPr b="0" lang="en-US" sz="27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and </a:t>
            </a:r>
            <a:r>
              <a:rPr b="1" lang="en-US" sz="2700" spc="-1" strike="noStrike">
                <a:solidFill>
                  <a:srgbClr val="94c600"/>
                </a:solidFill>
                <a:latin typeface="Century Gothic"/>
              </a:rPr>
              <a:t>actively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engage the ideas you encounter.  This level of reading is called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“critical reading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.” It takes time and practice to develop the ability to read critically.  At first you will need to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read a text </a:t>
            </a:r>
            <a:r>
              <a:rPr b="1" lang="en-US" sz="2700" spc="-1" strike="noStrike">
                <a:solidFill>
                  <a:srgbClr val="ff0000"/>
                </a:solidFill>
                <a:latin typeface="Century Gothic"/>
              </a:rPr>
              <a:t>two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 or more times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to be able to </a:t>
            </a:r>
            <a:r>
              <a:rPr b="1" lang="en-US" sz="2700" spc="-1" strike="noStrike">
                <a:solidFill>
                  <a:srgbClr val="898989"/>
                </a:solidFill>
                <a:latin typeface="Century Gothic"/>
              </a:rPr>
              <a:t>actively engage </a:t>
            </a:r>
            <a:r>
              <a:rPr b="0" lang="en-US" sz="2700" spc="-1" strike="noStrike">
                <a:solidFill>
                  <a:srgbClr val="898989"/>
                </a:solidFill>
                <a:latin typeface="Century Gothic"/>
              </a:rPr>
              <a:t>it.  The following guide will help you develop critical reading skills.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he Rhetoric of Read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Diagram 2" descr=""/>
          <p:cNvPicPr/>
          <p:nvPr/>
        </p:nvPicPr>
        <p:blipFill>
          <a:blip r:embed="rId1"/>
          <a:stretch/>
        </p:blipFill>
        <p:spPr>
          <a:xfrm>
            <a:off x="1139760" y="2127240"/>
            <a:ext cx="7248600" cy="4365720"/>
          </a:xfrm>
          <a:prstGeom prst="rect">
            <a:avLst/>
          </a:prstGeom>
          <a:ln w="0">
            <a:noFill/>
          </a:ln>
        </p:spPr>
      </p:pic>
      <p:sp>
        <p:nvSpPr>
          <p:cNvPr id="348" name="Flowchart: Decision 4"/>
          <p:cNvSpPr/>
          <p:nvPr/>
        </p:nvSpPr>
        <p:spPr>
          <a:xfrm>
            <a:off x="3992400" y="4021200"/>
            <a:ext cx="1678320" cy="914400"/>
          </a:xfrm>
          <a:prstGeom prst="flowChartDecision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4066920" y="42465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50" name="Straight Arrow Connector 5"/>
          <p:cNvCxnSpPr/>
          <p:nvPr/>
        </p:nvCxnSpPr>
        <p:spPr>
          <a:xfrm>
            <a:off x="2437920" y="3352320"/>
            <a:ext cx="2210760" cy="894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TextBox 8"/>
          <p:cNvSpPr/>
          <p:nvPr/>
        </p:nvSpPr>
        <p:spPr>
          <a:xfrm>
            <a:off x="685800" y="22860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ader actively constructs meaning – combining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ll you know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5943600" y="22860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nowledge about the auth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6629400" y="46483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nowledge about the text or stor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457200" y="4800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knowledge about the audien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Diagram 1" descr=""/>
          <p:cNvPicPr/>
          <p:nvPr/>
        </p:nvPicPr>
        <p:blipFill>
          <a:blip r:embed="rId1"/>
          <a:stretch/>
        </p:blipFill>
        <p:spPr>
          <a:xfrm>
            <a:off x="165240" y="835200"/>
            <a:ext cx="89978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Reading Scientificall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7" name="Diagram 3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3217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335268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Re-reading Critically</a:t>
            </a:r>
            <a:br>
              <a:rPr sz="4000"/>
            </a:b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omplete Assignment #1</a:t>
            </a:r>
            <a:br>
              <a:rPr sz="4000"/>
            </a:b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o make a </a:t>
            </a:r>
            <a:br>
              <a:rPr sz="4000"/>
            </a:b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itical Reading of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Title 1"/>
          <p:cNvSpPr/>
          <p:nvPr/>
        </p:nvSpPr>
        <p:spPr>
          <a:xfrm>
            <a:off x="1066680" y="4649760"/>
            <a:ext cx="70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The Ant and the Grasshopper”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by Aesop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0:09:00Z</dcterms:created>
  <dc:creator>Sally Everson</dc:creator>
  <dc:description/>
  <dc:language>en-US</dc:language>
  <cp:lastModifiedBy>Petra</cp:lastModifiedBy>
  <dcterms:modified xsi:type="dcterms:W3CDTF">2011-09-07T21:21:49Z</dcterms:modified>
  <cp:revision>28</cp:revision>
  <dc:subject/>
  <dc:title>Fiction – Introduction to Literature</dc:title>
</cp:coreProperties>
</file>